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28D-2B4E-4858-B6AA-D80BEFD66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D74-B90A-42CA-9066-ACA85F25A0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CB4-9C71-4C07-B7DF-1600EDE0D1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E55-BAE3-46F2-AF2D-07F108451F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C5D-937F-4B51-BB56-0889C1C363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F54-A932-425B-B5D6-E20FF30828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18F-3856-4BBA-9A05-4A9167430A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31C4-36DB-4945-A533-489A4FC4ED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7F4-4B6D-46D9-B45B-4F76E30BBE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290-08F7-42AC-8D7D-1F8C8FF45A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E47-02C3-4D3F-86BD-470BC22B0B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8E1-F6C3-494A-85E6-A699DC85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EAA-9252-4B95-A9BC-D8026C2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903-DE44-4761-8D56-591486D6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EE1-6085-491E-9554-DA7CB7CE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CF4-86B6-47D5-8B6D-EE12BA88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EEE-7F23-4407-9AF1-202350B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317-8FDE-452F-9CC1-0F6B09D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170-B94C-4D69-B9BF-645ACC5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3D98-9E3B-4F9D-94CC-D0F6C45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E95-053E-4761-A1B4-3D7F534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B27-1169-4568-B953-73DDBB0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8F3-F2EC-4F43-82FA-238FD7CC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94A-AA3C-48A3-B8C2-C04B1AA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BEF-DA64-49DF-B98C-7B7778C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5BC-03C0-495B-BA85-66F50AE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D6F-E868-4157-9A3C-A8218A40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CB3-AD26-430A-9505-21B6D15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434-C00F-4D67-A000-EC97145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3AD-8648-4A12-AA05-502DF67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615-0C02-43E8-993C-F39FBD7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4B6-05B1-4969-AA3A-2793A87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F9A-910C-4FDF-A66D-2168EAC1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1DF-CA9D-493C-A668-ECCF6B3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8B2-6205-478C-AAD1-25FB759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BE7-0F0D-4044-B1B8-F744819ADB2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4A3-2A47-419A-8CE4-BC239E8DF33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978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apted from Dr. Cindi Harr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3969000" cy="109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is confining, labor intensive, repetitive, unappreciated, and life draining, you should click on the Jobs In Town Website to find a new place of employ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glish wor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me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derived from the Latin verb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e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to make clear.”  Argument is the process for making what we think clear to ourselves and oth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rusious and Channell-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he Aims of Argu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= claim an author mak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im= what an author wants you to belie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supported by evid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 place in contex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ve aims to persu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647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13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79200" y="-128520"/>
            <a:ext cx="398628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0" y="146160"/>
            <a:ext cx="4054320" cy="93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are the arguments made by this tex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vidence from the text supports this a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-152280" y="-158760"/>
            <a:ext cx="4163760" cy="1092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can be done by a machine, it may not be the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nobody notices you doing your job, it might not be the right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s an advertisement for a job search company, it suggests that you use their service to find a new job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9112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26:36Z</dcterms:created>
  <dc:creator>nvasquez</dc:creator>
  <dc:description/>
  <dc:language>en-US</dc:language>
  <cp:lastModifiedBy>Nvasquez</cp:lastModifiedBy>
  <dcterms:modified xsi:type="dcterms:W3CDTF">2011-02-14T22:15:07Z</dcterms:modified>
  <cp:revision>8</cp:revision>
  <dc:subject/>
  <dc:title>Audience, Purpose, &amp; Genre</dc:title>
</cp:coreProperties>
</file>